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9.jpeg" ContentType="image/jpeg"/>
  <Override PartName="/ppt/media/image11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14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15.png" ContentType="image/pn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C9FB5-488D-4F20-8BCB-0AEF8A7E1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266ED-1323-419C-8EDA-4565993E7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3B16C-3D59-4FD9-8416-AABE2037F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00FB0-DAA5-4A3D-B43D-B4EC7E497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93FAD-68DD-4928-8804-8F73B60B0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167AC-5ECA-4598-BFCF-1869BBC3B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8F2EE-4D03-4614-A929-E16692722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FF5E2-E320-4369-B586-27373DF50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01B34-21A3-40F6-9E29-3D1DFC52D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ABEFD-AE8F-413D-8E79-DD97E8E74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F9737-1DEE-4987-A10B-B04422F29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D1C72-58DE-4D34-8A42-6481311AD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0E291-B5E4-4E71-8F7D-20E834902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7141C-E3FE-49BA-B1CB-8F94FD0E6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FAB21-05AF-4C40-90D9-27078A8D3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F0E09-74D1-47E3-A886-77126C8D7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997D9-29D7-47A8-B8DE-60D27A3B8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C0DA2-31EC-44CC-ABE4-4B64C923C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57EF5-B3F4-4039-B5C9-7D66A41F3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5DE52-8330-4BCA-8E35-3246D4C6A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A16E3-FD82-49B3-B912-9CC3873F0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C7315-142C-41BB-A5BE-64D4C6E51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FD795-096D-40B9-812A-02C7629DF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A77E0-8FE9-4DF1-855F-78C7B5F89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>
                  <a:gd name="textAreaLeft" fmla="*/ 0 w 4469040"/>
                  <a:gd name="textAreaRight" fmla="*/ 4469400 w 4469040"/>
                  <a:gd name="textAreaTop" fmla="*/ 0 h 3349800"/>
                  <a:gd name="textAreaBottom" fmla="*/ 3350160 h 3349800"/>
                </a:gdLst>
                <a:ahLst/>
                <a:rect l="textAreaLeft" t="textAreaTop" r="textAreaRight" b="textAreaBottom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>
                  <a:gd name="textAreaLeft" fmla="*/ 0 w 6296040"/>
                  <a:gd name="textAreaRight" fmla="*/ 6296400 w 6296040"/>
                  <a:gd name="textAreaTop" fmla="*/ 0 h 3756240"/>
                  <a:gd name="textAreaBottom" fmla="*/ 3756600 h 3756240"/>
                </a:gdLst>
                <a:ahLst/>
                <a:rect l="textAreaLeft" t="textAreaTop" r="textAreaRight" b="textAreaBottom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>
                  <a:gd name="textAreaLeft" fmla="*/ 0 w 9099720"/>
                  <a:gd name="textAreaRight" fmla="*/ 9099720 w 9099720"/>
                  <a:gd name="textAreaTop" fmla="*/ 0 h 4932360"/>
                  <a:gd name="textAreaBottom" fmla="*/ 4932720 h 4932360"/>
                </a:gdLst>
                <a:ahLst/>
                <a:rect l="textAreaLeft" t="textAreaTop" r="textAreaRight" b="textAreaBottom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>
                  <a:gd name="textAreaLeft" fmla="*/ 0 w 8750520"/>
                  <a:gd name="textAreaRight" fmla="*/ 8750880 w 8750520"/>
                  <a:gd name="textAreaTop" fmla="*/ 0 h 4381560"/>
                  <a:gd name="textAreaBottom" fmla="*/ 4381920 h 4381560"/>
                </a:gdLst>
                <a:ahLst/>
                <a:rect l="textAreaLeft" t="textAreaTop" r="textAreaRight" b="textAreaBottom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>
                  <a:gd name="textAreaLeft" fmla="*/ 0 w 1254240"/>
                  <a:gd name="textAreaRight" fmla="*/ 1254600 w 1254240"/>
                  <a:gd name="textAreaTop" fmla="*/ 0 h 1887480"/>
                  <a:gd name="textAreaBottom" fmla="*/ 1887840 h 1887480"/>
                </a:gdLst>
                <a:ahLst/>
                <a:rect l="textAreaLeft" t="textAreaTop" r="textAreaRight" b="textAreaBottom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>
                  <a:gd name="textAreaLeft" fmla="*/ 0 w 919440"/>
                  <a:gd name="textAreaRight" fmla="*/ 919800 w 919440"/>
                  <a:gd name="textAreaTop" fmla="*/ 0 h 1773360"/>
                  <a:gd name="textAreaBottom" fmla="*/ 1773720 h 1773360"/>
                </a:gdLst>
                <a:ahLst/>
                <a:rect l="textAreaLeft" t="textAreaTop" r="textAreaRight" b="textAreaBottom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>
                  <a:gd name="textAreaLeft" fmla="*/ 0 w 3922920"/>
                  <a:gd name="textAreaRight" fmla="*/ 3923280 w 3922920"/>
                  <a:gd name="textAreaTop" fmla="*/ 0 h 3803400"/>
                  <a:gd name="textAreaBottom" fmla="*/ 3803760 h 3803400"/>
                </a:gdLst>
                <a:ahLst/>
                <a:rect l="textAreaLeft" t="textAreaTop" r="textAreaRight" b="textAreaBottom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>
                  <a:gd name="textAreaLeft" fmla="*/ 0 w 2221200"/>
                  <a:gd name="textAreaRight" fmla="*/ 2221560 w 2221200"/>
                  <a:gd name="textAreaTop" fmla="*/ 0 h 2141640"/>
                  <a:gd name="textAreaBottom" fmla="*/ 2142000 h 2141640"/>
                </a:gdLst>
                <a:ahLst/>
                <a:rect l="textAreaLeft" t="textAreaTop" r="textAreaRight" b="textAreaBottom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>
                  <a:gd name="textAreaLeft" fmla="*/ 0 w 1993680"/>
                  <a:gd name="textAreaRight" fmla="*/ 1994040 w 1993680"/>
                  <a:gd name="textAreaTop" fmla="*/ 0 h 1285920"/>
                  <a:gd name="textAreaBottom" fmla="*/ 1286280 h 1285920"/>
                </a:gdLst>
                <a:ahLst/>
                <a:rect l="textAreaLeft" t="textAreaTop" r="textAreaRight" b="textAreaBottom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>
                  <a:gd name="textAreaLeft" fmla="*/ 0 w 4521240"/>
                  <a:gd name="textAreaRight" fmla="*/ 4521600 w 4521240"/>
                  <a:gd name="textAreaTop" fmla="*/ 0 h 1251000"/>
                  <a:gd name="textAreaBottom" fmla="*/ 1251000 h 1251000"/>
                </a:gdLst>
                <a:ahLst/>
                <a:rect l="textAreaLeft" t="textAreaTop" r="textAreaRight" b="textAreaBottom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>
                  <a:gd name="textAreaLeft" fmla="*/ 0 w 506520"/>
                  <a:gd name="textAreaRight" fmla="*/ 506880 w 506520"/>
                  <a:gd name="textAreaTop" fmla="*/ 0 h 1355760"/>
                  <a:gd name="textAreaBottom" fmla="*/ 1356120 h 1355760"/>
                </a:gdLst>
                <a:ahLst/>
                <a:rect l="textAreaLeft" t="textAreaTop" r="textAreaRight" b="textAreaBottom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>
                  <a:gd name="textAreaLeft" fmla="*/ 0 w 1025280"/>
                  <a:gd name="textAreaRight" fmla="*/ 1025640 w 1025280"/>
                  <a:gd name="textAreaTop" fmla="*/ 0 h 622440"/>
                  <a:gd name="textAreaBottom" fmla="*/ 622800 h 622440"/>
                </a:gdLst>
                <a:ahLst/>
                <a:rect l="textAreaLeft" t="textAreaTop" r="textAreaRight" b="textAreaBottom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>
                  <a:gd name="textAreaLeft" fmla="*/ 0 w 4343400"/>
                  <a:gd name="textAreaRight" fmla="*/ 4343760 w 4343400"/>
                  <a:gd name="textAreaTop" fmla="*/ 0 h 3048120"/>
                  <a:gd name="textAreaBottom" fmla="*/ 3048480 h 3048120"/>
                </a:gdLst>
                <a:ahLst/>
                <a:rect l="textAreaLeft" t="textAreaTop" r="textAreaRight" b="textAreaBottom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Rectangle 18"/>
              <p:cNvSpPr/>
              <p:nvPr/>
            </p:nvSpPr>
            <p:spPr>
              <a:xfrm rot="6798600">
                <a:off x="100080" y="61617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 rot="6798600">
                <a:off x="11160" y="61491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 rot="5999400">
                <a:off x="29088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 rot="6249600">
                <a:off x="243360" y="61714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 rot="5380200">
                <a:off x="576720" y="613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 rot="5380200">
                <a:off x="52884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 rot="5583000">
                <a:off x="481320" y="6152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 rot="5737200">
                <a:off x="430560" y="616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 rot="4715400">
                <a:off x="820800" y="60760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 rot="5041200">
                <a:off x="678240" y="61110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" name="Rectangle 35"/>
              <p:cNvSpPr/>
              <p:nvPr/>
            </p:nvSpPr>
            <p:spPr>
              <a:xfrm rot="4104000">
                <a:off x="962280" y="60156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" name="Rectangle 37"/>
              <p:cNvSpPr/>
              <p:nvPr/>
            </p:nvSpPr>
            <p:spPr>
              <a:xfrm rot="3367800">
                <a:off x="1270080" y="5844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" name="Rectangle 38"/>
              <p:cNvSpPr/>
              <p:nvPr/>
            </p:nvSpPr>
            <p:spPr>
              <a:xfrm rot="3367800">
                <a:off x="1226160" y="58698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" name="Rectangle 39"/>
              <p:cNvSpPr/>
              <p:nvPr/>
            </p:nvSpPr>
            <p:spPr>
              <a:xfrm rot="3367800">
                <a:off x="1184400" y="5898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2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4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8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9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0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1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2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3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4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5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6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9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>
                  <a:gd name="textAreaLeft" fmla="*/ 0 w 285840"/>
                  <a:gd name="textAreaRight" fmla="*/ 286200 w 285840"/>
                  <a:gd name="textAreaTop" fmla="*/ 0 h 239760"/>
                  <a:gd name="textAreaBottom" fmla="*/ 240120 h 239760"/>
                </a:gdLst>
                <a:ahLst/>
                <a:rect l="textAreaLeft" t="textAreaTop" r="textAreaRight" b="textAreaBottom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0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1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2" name="Rectangle 84"/>
              <p:cNvSpPr/>
              <p:nvPr/>
            </p:nvSpPr>
            <p:spPr>
              <a:xfrm rot="18642600">
                <a:off x="1440360" y="39236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3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4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5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6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7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8" name="Rectangle 90"/>
              <p:cNvSpPr/>
              <p:nvPr/>
            </p:nvSpPr>
            <p:spPr>
              <a:xfrm rot="18085200">
                <a:off x="1328760" y="387252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9" name="Rectangle 91"/>
              <p:cNvSpPr/>
              <p:nvPr/>
            </p:nvSpPr>
            <p:spPr>
              <a:xfrm rot="18379200">
                <a:off x="1369440" y="38912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0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1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2" name="Rectangle 94"/>
              <p:cNvSpPr/>
              <p:nvPr/>
            </p:nvSpPr>
            <p:spPr>
              <a:xfrm rot="17349600">
                <a:off x="1124640" y="381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3" name="Rectangle 95"/>
              <p:cNvSpPr/>
              <p:nvPr/>
            </p:nvSpPr>
            <p:spPr>
              <a:xfrm rot="17611200">
                <a:off x="1171800" y="3824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4" name="Rectangle 96"/>
              <p:cNvSpPr/>
              <p:nvPr/>
            </p:nvSpPr>
            <p:spPr>
              <a:xfrm rot="16737600">
                <a:off x="799200" y="379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5" name="Rectangle 97"/>
              <p:cNvSpPr/>
              <p:nvPr/>
            </p:nvSpPr>
            <p:spPr>
              <a:xfrm rot="16926600">
                <a:off x="848520" y="379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6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7" name="Rectangle 99"/>
              <p:cNvSpPr/>
              <p:nvPr/>
            </p:nvSpPr>
            <p:spPr>
              <a:xfrm rot="17019600">
                <a:off x="94536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" name="Rectangle 101"/>
              <p:cNvSpPr/>
              <p:nvPr/>
            </p:nvSpPr>
            <p:spPr>
              <a:xfrm rot="16239000">
                <a:off x="612000" y="382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" name="Rectangle 102"/>
              <p:cNvSpPr/>
              <p:nvPr/>
            </p:nvSpPr>
            <p:spPr>
              <a:xfrm rot="16311000">
                <a:off x="665640" y="38152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1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3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4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5" name="Rectangle 107"/>
              <p:cNvSpPr/>
              <p:nvPr/>
            </p:nvSpPr>
            <p:spPr>
              <a:xfrm rot="15680400">
                <a:off x="465840" y="3850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6" name="Rectangle 108"/>
              <p:cNvSpPr/>
              <p:nvPr/>
            </p:nvSpPr>
            <p:spPr>
              <a:xfrm rot="14223600">
                <a:off x="10080" y="40438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7" name="Rectangle 109"/>
              <p:cNvSpPr/>
              <p:nvPr/>
            </p:nvSpPr>
            <p:spPr>
              <a:xfrm rot="14431200">
                <a:off x="103680" y="3993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8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9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0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1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2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3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4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5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6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7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8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9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0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1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2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3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4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5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6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7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8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9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0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1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2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3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4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5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6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>
                  <a:gd name="textAreaLeft" fmla="*/ 0 w 324000"/>
                  <a:gd name="textAreaRight" fmla="*/ 324360 w 324000"/>
                  <a:gd name="textAreaTop" fmla="*/ 0 h 190440"/>
                  <a:gd name="textAreaBottom" fmla="*/ 190800 h 190440"/>
                </a:gdLst>
                <a:ahLst/>
                <a:rect l="textAreaLeft" t="textAreaTop" r="textAreaRight" b="textAreaBottom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7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8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>
                  <a:gd name="textAreaLeft" fmla="*/ 0 w 160200"/>
                  <a:gd name="textAreaRight" fmla="*/ 160560 w 16020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9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0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1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33200"/>
                  <a:gd name="textAreaBottom" fmla="*/ 133560 h 133200"/>
                </a:gdLst>
                <a:ahLst/>
                <a:rect l="textAreaLeft" t="textAreaTop" r="textAreaRight" b="textAreaBottom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2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3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76320"/>
                  <a:gd name="textAreaBottom" fmla="*/ 76680 h 76320"/>
                </a:gdLst>
                <a:ahLst/>
                <a:rect l="textAreaLeft" t="textAreaTop" r="textAreaRight" b="textAreaBottom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4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>
                  <a:gd name="textAreaLeft" fmla="*/ 0 w 57240"/>
                  <a:gd name="textAreaRight" fmla="*/ 57600 w 5724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5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6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7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>
                  <a:gd name="textAreaLeft" fmla="*/ 0 w 228600"/>
                  <a:gd name="textAreaRight" fmla="*/ 228960 w 228600"/>
                  <a:gd name="textAreaTop" fmla="*/ 0 h 244440"/>
                  <a:gd name="textAreaBottom" fmla="*/ 244800 h 244440"/>
                </a:gdLst>
                <a:ahLst/>
                <a:rect l="textAreaLeft" t="textAreaTop" r="textAreaRight" b="textAreaBottom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8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109440"/>
                  <a:gd name="textAreaBottom" fmla="*/ 109800 h 109440"/>
                </a:gdLst>
                <a:ahLst/>
                <a:rect l="textAreaLeft" t="textAreaTop" r="textAreaRight" b="textAreaBottom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9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>
                  <a:gd name="textAreaLeft" fmla="*/ 0 w 552600"/>
                  <a:gd name="textAreaRight" fmla="*/ 552960 w 552600"/>
                  <a:gd name="textAreaTop" fmla="*/ 0 h 2019240"/>
                  <a:gd name="textAreaBottom" fmla="*/ 2019240 h 2019240"/>
                </a:gdLst>
                <a:ahLst/>
                <a:rect l="textAreaLeft" t="textAreaTop" r="textAreaRight" b="textAreaBottom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0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024C8-E457-472E-A4DC-3F0630F0880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>
                  <a:gd name="textAreaLeft" fmla="*/ 0 w 4469040"/>
                  <a:gd name="textAreaRight" fmla="*/ 4469400 w 4469040"/>
                  <a:gd name="textAreaTop" fmla="*/ 0 h 3349800"/>
                  <a:gd name="textAreaBottom" fmla="*/ 3350160 h 3349800"/>
                </a:gdLst>
                <a:ahLst/>
                <a:rect l="textAreaLeft" t="textAreaTop" r="textAreaRight" b="textAreaBottom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5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>
                  <a:gd name="textAreaLeft" fmla="*/ 0 w 6296040"/>
                  <a:gd name="textAreaRight" fmla="*/ 6296400 w 6296040"/>
                  <a:gd name="textAreaTop" fmla="*/ 0 h 3756240"/>
                  <a:gd name="textAreaBottom" fmla="*/ 3756600 h 3756240"/>
                </a:gdLst>
                <a:ahLst/>
                <a:rect l="textAreaLeft" t="textAreaTop" r="textAreaRight" b="textAreaBottom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6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>
                  <a:gd name="textAreaLeft" fmla="*/ 0 w 9099720"/>
                  <a:gd name="textAreaRight" fmla="*/ 9099720 w 9099720"/>
                  <a:gd name="textAreaTop" fmla="*/ 0 h 4932360"/>
                  <a:gd name="textAreaBottom" fmla="*/ 4932720 h 4932360"/>
                </a:gdLst>
                <a:ahLst/>
                <a:rect l="textAreaLeft" t="textAreaTop" r="textAreaRight" b="textAreaBottom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7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>
                  <a:gd name="textAreaLeft" fmla="*/ 0 w 8750520"/>
                  <a:gd name="textAreaRight" fmla="*/ 8750880 w 8750520"/>
                  <a:gd name="textAreaTop" fmla="*/ 0 h 4381560"/>
                  <a:gd name="textAreaBottom" fmla="*/ 4381920 h 4381560"/>
                </a:gdLst>
                <a:ahLst/>
                <a:rect l="textAreaLeft" t="textAreaTop" r="textAreaRight" b="textAreaBottom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8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>
                  <a:gd name="textAreaLeft" fmla="*/ 0 w 1254240"/>
                  <a:gd name="textAreaRight" fmla="*/ 1254600 w 1254240"/>
                  <a:gd name="textAreaTop" fmla="*/ 0 h 1887480"/>
                  <a:gd name="textAreaBottom" fmla="*/ 1887840 h 1887480"/>
                </a:gdLst>
                <a:ahLst/>
                <a:rect l="textAreaLeft" t="textAreaTop" r="textAreaRight" b="textAreaBottom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9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>
                  <a:gd name="textAreaLeft" fmla="*/ 0 w 919440"/>
                  <a:gd name="textAreaRight" fmla="*/ 919800 w 919440"/>
                  <a:gd name="textAreaTop" fmla="*/ 0 h 1773360"/>
                  <a:gd name="textAreaBottom" fmla="*/ 1773720 h 1773360"/>
                </a:gdLst>
                <a:ahLst/>
                <a:rect l="textAreaLeft" t="textAreaTop" r="textAreaRight" b="textAreaBottom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0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>
                  <a:gd name="textAreaLeft" fmla="*/ 0 w 3922920"/>
                  <a:gd name="textAreaRight" fmla="*/ 3923280 w 3922920"/>
                  <a:gd name="textAreaTop" fmla="*/ 0 h 3803400"/>
                  <a:gd name="textAreaBottom" fmla="*/ 3803760 h 3803400"/>
                </a:gdLst>
                <a:ahLst/>
                <a:rect l="textAreaLeft" t="textAreaTop" r="textAreaRight" b="textAreaBottom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1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>
                  <a:gd name="textAreaLeft" fmla="*/ 0 w 2221200"/>
                  <a:gd name="textAreaRight" fmla="*/ 2221560 w 2221200"/>
                  <a:gd name="textAreaTop" fmla="*/ 0 h 2141640"/>
                  <a:gd name="textAreaBottom" fmla="*/ 2142000 h 2141640"/>
                </a:gdLst>
                <a:ahLst/>
                <a:rect l="textAreaLeft" t="textAreaTop" r="textAreaRight" b="textAreaBottom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2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>
                  <a:gd name="textAreaLeft" fmla="*/ 0 w 1993680"/>
                  <a:gd name="textAreaRight" fmla="*/ 1994040 w 1993680"/>
                  <a:gd name="textAreaTop" fmla="*/ 0 h 1285920"/>
                  <a:gd name="textAreaBottom" fmla="*/ 1286280 h 1285920"/>
                </a:gdLst>
                <a:ahLst/>
                <a:rect l="textAreaLeft" t="textAreaTop" r="textAreaRight" b="textAreaBottom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3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>
                  <a:gd name="textAreaLeft" fmla="*/ 0 w 4521240"/>
                  <a:gd name="textAreaRight" fmla="*/ 4521600 w 4521240"/>
                  <a:gd name="textAreaTop" fmla="*/ 0 h 1251000"/>
                  <a:gd name="textAreaBottom" fmla="*/ 1251000 h 1251000"/>
                </a:gdLst>
                <a:ahLst/>
                <a:rect l="textAreaLeft" t="textAreaTop" r="textAreaRight" b="textAreaBottom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4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>
                  <a:gd name="textAreaLeft" fmla="*/ 0 w 506520"/>
                  <a:gd name="textAreaRight" fmla="*/ 506880 w 506520"/>
                  <a:gd name="textAreaTop" fmla="*/ 0 h 1355760"/>
                  <a:gd name="textAreaBottom" fmla="*/ 1356120 h 1355760"/>
                </a:gdLst>
                <a:ahLst/>
                <a:rect l="textAreaLeft" t="textAreaTop" r="textAreaRight" b="textAreaBottom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5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>
                  <a:gd name="textAreaLeft" fmla="*/ 0 w 1025280"/>
                  <a:gd name="textAreaRight" fmla="*/ 1025640 w 1025280"/>
                  <a:gd name="textAreaTop" fmla="*/ 0 h 622440"/>
                  <a:gd name="textAreaBottom" fmla="*/ 622800 h 622440"/>
                </a:gdLst>
                <a:ahLst/>
                <a:rect l="textAreaLeft" t="textAreaTop" r="textAreaRight" b="textAreaBottom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6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>
                  <a:gd name="textAreaLeft" fmla="*/ 0 w 4343400"/>
                  <a:gd name="textAreaRight" fmla="*/ 4343760 w 4343400"/>
                  <a:gd name="textAreaTop" fmla="*/ 0 h 3048120"/>
                  <a:gd name="textAreaBottom" fmla="*/ 3048480 h 3048120"/>
                </a:gdLst>
                <a:ahLst/>
                <a:rect l="textAreaLeft" t="textAreaTop" r="textAreaRight" b="textAreaBottom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207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Rectangle 18"/>
              <p:cNvSpPr/>
              <p:nvPr/>
            </p:nvSpPr>
            <p:spPr>
              <a:xfrm rot="6798600">
                <a:off x="100080" y="61617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9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0" name="Rectangle 20"/>
              <p:cNvSpPr/>
              <p:nvPr/>
            </p:nvSpPr>
            <p:spPr>
              <a:xfrm rot="6798600">
                <a:off x="11160" y="61491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1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2" name="Rectangle 22"/>
              <p:cNvSpPr/>
              <p:nvPr/>
            </p:nvSpPr>
            <p:spPr>
              <a:xfrm rot="5999400">
                <a:off x="29088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3" name="Rectangle 23"/>
              <p:cNvSpPr/>
              <p:nvPr/>
            </p:nvSpPr>
            <p:spPr>
              <a:xfrm rot="6249600">
                <a:off x="243360" y="61714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4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5" name="Rectangle 25"/>
              <p:cNvSpPr/>
              <p:nvPr/>
            </p:nvSpPr>
            <p:spPr>
              <a:xfrm rot="5380200">
                <a:off x="576720" y="613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6" name="Rectangle 26"/>
              <p:cNvSpPr/>
              <p:nvPr/>
            </p:nvSpPr>
            <p:spPr>
              <a:xfrm rot="5380200">
                <a:off x="52884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7" name="Rectangle 27"/>
              <p:cNvSpPr/>
              <p:nvPr/>
            </p:nvSpPr>
            <p:spPr>
              <a:xfrm rot="5583000">
                <a:off x="481320" y="6152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8" name="Rectangle 28"/>
              <p:cNvSpPr/>
              <p:nvPr/>
            </p:nvSpPr>
            <p:spPr>
              <a:xfrm rot="5737200">
                <a:off x="430560" y="616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9" name="Rectangle 29"/>
              <p:cNvSpPr/>
              <p:nvPr/>
            </p:nvSpPr>
            <p:spPr>
              <a:xfrm rot="4715400">
                <a:off x="820800" y="60760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0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1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2" name="Rectangle 32"/>
              <p:cNvSpPr/>
              <p:nvPr/>
            </p:nvSpPr>
            <p:spPr>
              <a:xfrm rot="5041200">
                <a:off x="678240" y="61110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3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4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5" name="Rectangle 35"/>
              <p:cNvSpPr/>
              <p:nvPr/>
            </p:nvSpPr>
            <p:spPr>
              <a:xfrm rot="4104000">
                <a:off x="962280" y="60156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6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7" name="Rectangle 37"/>
              <p:cNvSpPr/>
              <p:nvPr/>
            </p:nvSpPr>
            <p:spPr>
              <a:xfrm rot="3367800">
                <a:off x="1270080" y="5844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8" name="Rectangle 38"/>
              <p:cNvSpPr/>
              <p:nvPr/>
            </p:nvSpPr>
            <p:spPr>
              <a:xfrm rot="3367800">
                <a:off x="1226160" y="58698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9" name="Rectangle 39"/>
              <p:cNvSpPr/>
              <p:nvPr/>
            </p:nvSpPr>
            <p:spPr>
              <a:xfrm rot="3367800">
                <a:off x="1184400" y="5898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0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1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2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3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4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5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6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7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8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9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0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1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2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3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4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5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6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7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8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9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0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1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2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3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4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5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6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7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8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9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0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1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2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3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4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5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6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7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8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9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0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1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>
                  <a:gd name="textAreaLeft" fmla="*/ 0 w 285840"/>
                  <a:gd name="textAreaRight" fmla="*/ 286200 w 285840"/>
                  <a:gd name="textAreaTop" fmla="*/ 0 h 239760"/>
                  <a:gd name="textAreaBottom" fmla="*/ 240120 h 239760"/>
                </a:gdLst>
                <a:ahLst/>
                <a:rect l="textAreaLeft" t="textAreaTop" r="textAreaRight" b="textAreaBottom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2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3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4" name="Rectangle 84"/>
              <p:cNvSpPr/>
              <p:nvPr/>
            </p:nvSpPr>
            <p:spPr>
              <a:xfrm rot="18642600">
                <a:off x="1440360" y="39236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5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6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7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8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9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0" name="Rectangle 90"/>
              <p:cNvSpPr/>
              <p:nvPr/>
            </p:nvSpPr>
            <p:spPr>
              <a:xfrm rot="18085200">
                <a:off x="1328760" y="387252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1" name="Rectangle 91"/>
              <p:cNvSpPr/>
              <p:nvPr/>
            </p:nvSpPr>
            <p:spPr>
              <a:xfrm rot="18379200">
                <a:off x="1369440" y="38912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2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3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4" name="Rectangle 94"/>
              <p:cNvSpPr/>
              <p:nvPr/>
            </p:nvSpPr>
            <p:spPr>
              <a:xfrm rot="17349600">
                <a:off x="1124640" y="381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5" name="Rectangle 95"/>
              <p:cNvSpPr/>
              <p:nvPr/>
            </p:nvSpPr>
            <p:spPr>
              <a:xfrm rot="17611200">
                <a:off x="1171800" y="3824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6" name="Rectangle 96"/>
              <p:cNvSpPr/>
              <p:nvPr/>
            </p:nvSpPr>
            <p:spPr>
              <a:xfrm rot="16737600">
                <a:off x="799200" y="379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7" name="Rectangle 97"/>
              <p:cNvSpPr/>
              <p:nvPr/>
            </p:nvSpPr>
            <p:spPr>
              <a:xfrm rot="16926600">
                <a:off x="848520" y="379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8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9" name="Rectangle 99"/>
              <p:cNvSpPr/>
              <p:nvPr/>
            </p:nvSpPr>
            <p:spPr>
              <a:xfrm rot="17019600">
                <a:off x="94536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0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1" name="Rectangle 101"/>
              <p:cNvSpPr/>
              <p:nvPr/>
            </p:nvSpPr>
            <p:spPr>
              <a:xfrm rot="16239000">
                <a:off x="612000" y="382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2" name="Rectangle 102"/>
              <p:cNvSpPr/>
              <p:nvPr/>
            </p:nvSpPr>
            <p:spPr>
              <a:xfrm rot="16311000">
                <a:off x="665640" y="38152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3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4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5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6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7" name="Rectangle 107"/>
              <p:cNvSpPr/>
              <p:nvPr/>
            </p:nvSpPr>
            <p:spPr>
              <a:xfrm rot="15680400">
                <a:off x="465840" y="3850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8" name="Rectangle 108"/>
              <p:cNvSpPr/>
              <p:nvPr/>
            </p:nvSpPr>
            <p:spPr>
              <a:xfrm rot="14223600">
                <a:off x="10080" y="40438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9" name="Rectangle 109"/>
              <p:cNvSpPr/>
              <p:nvPr/>
            </p:nvSpPr>
            <p:spPr>
              <a:xfrm rot="14431200">
                <a:off x="103680" y="3993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0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1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2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3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4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5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6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7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8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9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0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1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2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3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4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5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6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7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8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9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0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1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2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3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4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5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6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7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8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>
                  <a:gd name="textAreaLeft" fmla="*/ 0 w 324000"/>
                  <a:gd name="textAreaRight" fmla="*/ 324360 w 324000"/>
                  <a:gd name="textAreaTop" fmla="*/ 0 h 190440"/>
                  <a:gd name="textAreaBottom" fmla="*/ 190800 h 190440"/>
                </a:gdLst>
                <a:ahLst/>
                <a:rect l="textAreaLeft" t="textAreaTop" r="textAreaRight" b="textAreaBottom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9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0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>
                  <a:gd name="textAreaLeft" fmla="*/ 0 w 160200"/>
                  <a:gd name="textAreaRight" fmla="*/ 160560 w 16020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1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2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3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33200"/>
                  <a:gd name="textAreaBottom" fmla="*/ 133560 h 133200"/>
                </a:gdLst>
                <a:ahLst/>
                <a:rect l="textAreaLeft" t="textAreaTop" r="textAreaRight" b="textAreaBottom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4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5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76320"/>
                  <a:gd name="textAreaBottom" fmla="*/ 76680 h 76320"/>
                </a:gdLst>
                <a:ahLst/>
                <a:rect l="textAreaLeft" t="textAreaTop" r="textAreaRight" b="textAreaBottom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6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>
                  <a:gd name="textAreaLeft" fmla="*/ 0 w 57240"/>
                  <a:gd name="textAreaRight" fmla="*/ 57600 w 5724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7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8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9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>
                  <a:gd name="textAreaLeft" fmla="*/ 0 w 228600"/>
                  <a:gd name="textAreaRight" fmla="*/ 228960 w 228600"/>
                  <a:gd name="textAreaTop" fmla="*/ 0 h 244440"/>
                  <a:gd name="textAreaBottom" fmla="*/ 244800 h 244440"/>
                </a:gdLst>
                <a:ahLst/>
                <a:rect l="textAreaLeft" t="textAreaTop" r="textAreaRight" b="textAreaBottom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0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109440"/>
                  <a:gd name="textAreaBottom" fmla="*/ 109800 h 109440"/>
                </a:gdLst>
                <a:ahLst/>
                <a:rect l="textAreaLeft" t="textAreaTop" r="textAreaRight" b="textAreaBottom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1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>
                  <a:gd name="textAreaLeft" fmla="*/ 0 w 552600"/>
                  <a:gd name="textAreaRight" fmla="*/ 552960 w 552600"/>
                  <a:gd name="textAreaTop" fmla="*/ 0 h 2019240"/>
                  <a:gd name="textAreaBottom" fmla="*/ 2019240 h 2019240"/>
                </a:gdLst>
                <a:ahLst/>
                <a:rect l="textAreaLeft" t="textAreaTop" r="textAreaRight" b="textAreaBottom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2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33697-E344-4F35-A853-4BC49FA1F12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135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ahoma"/>
              </a:rPr>
              <a:t>Тема урока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642600" y="1285920"/>
            <a:ext cx="8001000" cy="35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ahoma"/>
              </a:rPr>
              <a:t>« Образование и наука. Русские первооткрыватели и путешественники.»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6" name="Rectangle 7"/>
          <p:cNvSpPr/>
          <p:nvPr/>
        </p:nvSpPr>
        <p:spPr>
          <a:xfrm>
            <a:off x="3571920" y="5286240"/>
            <a:ext cx="5256000" cy="1341720"/>
          </a:xfrm>
          <a:prstGeom prst="rect">
            <a:avLst/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Материал подготовлен учителем истори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Будинской ООШ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Антоненковой А.В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/>
          </p:nvPr>
        </p:nvSpPr>
        <p:spPr>
          <a:xfrm>
            <a:off x="3492000" y="1413000"/>
            <a:ext cx="547236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Двигубский Иван Алексеевич - естествоиспытатель. Из семьи священника. Среднее образование получил в Харьковском Коллегиуме, по окончании которого был оставлен там учителем риторики. В 1793 г. поступил в на медицинский факультет Московского университета, в 1796 г. окончил его с золотой медалью и был назначен смотрителем кабинета естественной истории. В 1798 г., представив диссертацию , произведен в должность адъюнкта и начал преподавать естественную историю и физику в Благородном пансионе. В июле 1802 г. защитил диссертацию первый опыт описания фауны Московской губ., и получил степень доктора медицины, после чего "для усовершенствования в естественной истории, химии врачебном веществословии" был командирован заграницу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31" name="Picture 13" descr="dvigubsky"/>
          <p:cNvPicPr/>
          <p:nvPr/>
        </p:nvPicPr>
        <p:blipFill>
          <a:blip r:embed="rId1"/>
          <a:stretch/>
        </p:blipFill>
        <p:spPr>
          <a:xfrm>
            <a:off x="324000" y="1638360"/>
            <a:ext cx="3093840" cy="3878280"/>
          </a:xfrm>
          <a:prstGeom prst="rect">
            <a:avLst/>
          </a:prstGeom>
          <a:ln w="0">
            <a:noFill/>
          </a:ln>
        </p:spPr>
      </p:pic>
      <p:sp>
        <p:nvSpPr>
          <p:cNvPr id="432" name="Rectangle 14"/>
          <p:cNvSpPr/>
          <p:nvPr/>
        </p:nvSpPr>
        <p:spPr>
          <a:xfrm>
            <a:off x="324000" y="5661000"/>
            <a:ext cx="3095640" cy="792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b5d6b"/>
                </a:solidFill>
                <a:latin typeface="Tahoma"/>
              </a:rPr>
              <a:t>Иван Алексеевич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b5d6b"/>
                </a:solidFill>
                <a:latin typeface="Tahoma"/>
              </a:rPr>
              <a:t>Двигубский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3" name="Rectangle 15"/>
          <p:cNvSpPr/>
          <p:nvPr/>
        </p:nvSpPr>
        <p:spPr>
          <a:xfrm>
            <a:off x="250920" y="189000"/>
            <a:ext cx="8642160" cy="1008000"/>
          </a:xfrm>
          <a:prstGeom prst="rect">
            <a:avLst/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Биолог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Биология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Иустин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Евдокимович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Дядьковски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Выдвинул и доказал идею о том, что все  явления в природе обусловлены естественными причинами и подчинены общим законам развити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/>
          </p:nvPr>
        </p:nvSpPr>
        <p:spPr>
          <a:xfrm>
            <a:off x="4067280" y="1600200"/>
            <a:ext cx="477504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Родился 17 февраля 1792 г., имение Пип (Эстляндия). Умер 16 ноября 1876 г., Дерпт. Естествоиспытатель. Иностранный член-корреспондент РАН с 20 декабря 1826 г., ординарный академик по зоологии с 9 апреля 1828 г., иностранный почетный член с 28 октября 1830 г., вторично ординарный академик с 11 апреля 1834 г. по 27 октября 1862 г., почетный член со 2 ноября 1862 г. с правом присутствия и голоса в заседаниях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38" name="Picture 9" descr="К.М.Бэр"/>
          <p:cNvPicPr/>
          <p:nvPr/>
        </p:nvPicPr>
        <p:blipFill>
          <a:blip r:embed="rId1"/>
          <a:stretch/>
        </p:blipFill>
        <p:spPr>
          <a:xfrm>
            <a:off x="468360" y="1341360"/>
            <a:ext cx="3181320" cy="3810240"/>
          </a:xfrm>
          <a:prstGeom prst="rect">
            <a:avLst/>
          </a:prstGeom>
          <a:ln w="0">
            <a:noFill/>
          </a:ln>
        </p:spPr>
      </p:pic>
      <p:sp>
        <p:nvSpPr>
          <p:cNvPr id="439" name="PlaceHolder 2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Биология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0" name="Rectangle 11"/>
          <p:cNvSpPr/>
          <p:nvPr/>
        </p:nvSpPr>
        <p:spPr>
          <a:xfrm>
            <a:off x="4427640" y="6021360"/>
            <a:ext cx="4176720" cy="720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b5d6b"/>
                </a:solidFill>
                <a:latin typeface="Tahoma"/>
              </a:rPr>
              <a:t>« Всеобщий закон развити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b5d6b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5b5d6b"/>
                </a:solidFill>
                <a:latin typeface="Tahoma"/>
              </a:rPr>
              <a:t>природы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1" name="Rectangle 12"/>
          <p:cNvSpPr/>
          <p:nvPr/>
        </p:nvSpPr>
        <p:spPr>
          <a:xfrm>
            <a:off x="179280" y="5445000"/>
            <a:ext cx="3600720" cy="7923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a5c6c"/>
                </a:solidFill>
                <a:latin typeface="Tahoma"/>
              </a:rPr>
              <a:t>Карл Максимович Бэр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Медицин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284720" y="1600200"/>
            <a:ext cx="4557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Являлся основоположником военно – полевой хирурги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В годы Крымской войны применял наркоз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Использовал  для лечения переломов неподвижную гипсовую повязку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44" name="Picture 10" descr="Николай Пирогов"/>
          <p:cNvPicPr/>
          <p:nvPr/>
        </p:nvPicPr>
        <p:blipFill>
          <a:blip r:embed="rId1"/>
          <a:stretch/>
        </p:blipFill>
        <p:spPr>
          <a:xfrm>
            <a:off x="826920" y="1665360"/>
            <a:ext cx="3170520" cy="3527280"/>
          </a:xfrm>
          <a:prstGeom prst="rect">
            <a:avLst/>
          </a:prstGeom>
          <a:ln w="0">
            <a:noFill/>
          </a:ln>
        </p:spPr>
      </p:pic>
      <p:sp>
        <p:nvSpPr>
          <p:cNvPr id="445" name="Rectangle 11"/>
          <p:cNvSpPr/>
          <p:nvPr/>
        </p:nvSpPr>
        <p:spPr>
          <a:xfrm>
            <a:off x="324000" y="5300640"/>
            <a:ext cx="3887640" cy="792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b5d6b"/>
                </a:solidFill>
                <a:latin typeface="Tahoma"/>
              </a:rPr>
              <a:t>Н.Н. Пирогов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Геология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7" name="AutoShape 8"/>
          <p:cNvSpPr/>
          <p:nvPr/>
        </p:nvSpPr>
        <p:spPr>
          <a:xfrm rot="1698600">
            <a:off x="3132000" y="1412640"/>
            <a:ext cx="486000" cy="976320"/>
          </a:xfrm>
          <a:prstGeom prst="downArrow">
            <a:avLst>
              <a:gd name="adj1" fmla="val 50000"/>
              <a:gd name="adj2" fmla="val 50222"/>
            </a:avLst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8" name="AutoShape 9"/>
          <p:cNvSpPr/>
          <p:nvPr/>
        </p:nvSpPr>
        <p:spPr>
          <a:xfrm rot="20597400">
            <a:off x="6227640" y="1412640"/>
            <a:ext cx="486000" cy="976320"/>
          </a:xfrm>
          <a:prstGeom prst="downArrow">
            <a:avLst>
              <a:gd name="adj1" fmla="val 50000"/>
              <a:gd name="adj2" fmla="val 50222"/>
            </a:avLst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9" name="Rectangle 10"/>
          <p:cNvSpPr/>
          <p:nvPr/>
        </p:nvSpPr>
        <p:spPr>
          <a:xfrm>
            <a:off x="0" y="2349360"/>
            <a:ext cx="4572000" cy="43214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« нептунисты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d6b"/>
                </a:solidFill>
                <a:latin typeface="Tahoma"/>
              </a:rPr>
              <a:t>Считали, что все геологически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d6b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5b5d6b"/>
                </a:solidFill>
                <a:latin typeface="Tahoma"/>
              </a:rPr>
              <a:t>процессы обусловлены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d6b"/>
                </a:solidFill>
                <a:latin typeface="Tahoma"/>
              </a:rPr>
              <a:t>действием воды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0" name="Rectangle 11"/>
          <p:cNvSpPr/>
          <p:nvPr/>
        </p:nvSpPr>
        <p:spPr>
          <a:xfrm>
            <a:off x="4788000" y="2349360"/>
            <a:ext cx="4176720" cy="4319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« плутонисты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b5d6b"/>
                </a:solidFill>
                <a:latin typeface="Tahoma"/>
              </a:rPr>
              <a:t>Полагали, что основно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b5d6b"/>
                </a:solidFill>
                <a:latin typeface="Tahoma"/>
              </a:rPr>
              <a:t>этих процессо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b5d6b"/>
                </a:solidFill>
                <a:latin typeface="Tahoma"/>
              </a:rPr>
              <a:t>является наличи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b5d6b"/>
                </a:solidFill>
                <a:latin typeface="Tahoma"/>
              </a:rPr>
              <a:t>«центрального огня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b5d6b"/>
                </a:solidFill>
                <a:latin typeface="Tahoma"/>
              </a:rPr>
              <a:t>внутри Земл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301680" y="148392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Шёл медленный процесс накопления знаний, который привёл в последствии к революции в этой науке. Главным достижением стало создание мощных телескопов, которые позволили  составить более детальное описание Солнечной системы. В 1839 году была создана Пулковская обсерватория, ставшая центром  астрономических работ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Астрономия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/>
          </p:nvPr>
        </p:nvSpPr>
        <p:spPr>
          <a:xfrm>
            <a:off x="4211280" y="1341000"/>
            <a:ext cx="47530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8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Лобачевский Николай Иванович (1792-1856), русский математик, создатель неевклидовой геометрии (геометрия Лобачевского)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28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Ректор Казанского университета (1827-1846)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28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Труды по алгебре, математическому анализу, теории вероятностей, механике, физике и астрономи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54" name="Picture 7" descr="Рисунок4"/>
          <p:cNvPicPr/>
          <p:nvPr/>
        </p:nvPicPr>
        <p:blipFill>
          <a:blip r:embed="rId1"/>
          <a:stretch/>
        </p:blipFill>
        <p:spPr>
          <a:xfrm>
            <a:off x="324000" y="1700280"/>
            <a:ext cx="3651120" cy="4824360"/>
          </a:xfrm>
          <a:prstGeom prst="rect">
            <a:avLst/>
          </a:prstGeom>
          <a:ln w="76320">
            <a:solidFill>
              <a:srgbClr val="a3c145"/>
            </a:solidFill>
            <a:miter/>
          </a:ln>
        </p:spPr>
      </p:pic>
      <p:sp>
        <p:nvSpPr>
          <p:cNvPr id="455" name="PlaceHolder 2"/>
          <p:cNvSpPr>
            <a:spLocks noGrp="1"/>
          </p:cNvSpPr>
          <p:nvPr>
            <p:ph type="title"/>
          </p:nvPr>
        </p:nvSpPr>
        <p:spPr>
          <a:xfrm>
            <a:off x="301680" y="-360"/>
            <a:ext cx="8540640" cy="1143000"/>
          </a:xfrm>
          <a:prstGeom prst="rect">
            <a:avLst/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Математик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6" name="Picture 2" descr="лобаче"/>
          <p:cNvPicPr/>
          <p:nvPr/>
        </p:nvPicPr>
        <p:blipFill>
          <a:blip r:embed="rId1"/>
          <a:stretch/>
        </p:blipFill>
        <p:spPr>
          <a:xfrm>
            <a:off x="5148360" y="1628640"/>
            <a:ext cx="3589200" cy="4392720"/>
          </a:xfrm>
          <a:prstGeom prst="rect">
            <a:avLst/>
          </a:prstGeom>
          <a:ln w="76320">
            <a:solidFill>
              <a:srgbClr val="a3c145"/>
            </a:solidFill>
            <a:miter/>
          </a:ln>
        </p:spPr>
      </p:pic>
      <p:sp>
        <p:nvSpPr>
          <p:cNvPr id="457" name="Rectangle 3"/>
          <p:cNvSpPr/>
          <p:nvPr/>
        </p:nvSpPr>
        <p:spPr>
          <a:xfrm>
            <a:off x="468360" y="1628640"/>
            <a:ext cx="4317840" cy="5040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7632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В 1826 г. профессор Казанского университета Н.Н.Лобачевский создал неевклидову геометрию, которая нашла практическое применение только во </a:t>
            </a: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II</a:t>
            </a: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- половине </a:t>
            </a: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 XX</a:t>
            </a: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-век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8" name="Text Box 4"/>
          <p:cNvSpPr/>
          <p:nvPr/>
        </p:nvSpPr>
        <p:spPr>
          <a:xfrm>
            <a:off x="5906520" y="6165720"/>
            <a:ext cx="2626920" cy="459720"/>
          </a:xfrm>
          <a:prstGeom prst="rect">
            <a:avLst/>
          </a:prstGeom>
          <a:solidFill>
            <a:srgbClr val="9383b3"/>
          </a:solidFill>
          <a:ln w="7632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Н.И.Лобачевски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Математик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2"/>
          <p:cNvSpPr/>
          <p:nvPr/>
        </p:nvSpPr>
        <p:spPr>
          <a:xfrm>
            <a:off x="250920" y="1528920"/>
            <a:ext cx="4321080" cy="53290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7632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Петров Василий Владимирович (1761-1834), российский физик, один из первых российских электротехников, академик Петербургской АН (1809)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61" name="Picture 3" descr="петров"/>
          <p:cNvPicPr/>
          <p:nvPr/>
        </p:nvPicPr>
        <p:blipFill>
          <a:blip r:embed="rId2"/>
          <a:stretch/>
        </p:blipFill>
        <p:spPr>
          <a:xfrm>
            <a:off x="5003640" y="1989000"/>
            <a:ext cx="3654720" cy="3959280"/>
          </a:xfrm>
          <a:prstGeom prst="rect">
            <a:avLst/>
          </a:prstGeom>
          <a:ln w="76320">
            <a:solidFill>
              <a:srgbClr val="a3c145"/>
            </a:solidFill>
            <a:miter/>
          </a:ln>
        </p:spPr>
      </p:pic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Физик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2"/>
          <p:cNvSpPr/>
          <p:nvPr/>
        </p:nvSpPr>
        <p:spPr>
          <a:xfrm>
            <a:off x="4859280" y="512640"/>
            <a:ext cx="4284720" cy="5832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7632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Ленц Эмилий Христианович (1804 – 1865)</a:t>
            </a: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, р</a:t>
            </a: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усский физик  и электротехник, академик Петербургской АН (1830), ректор Санкт-Петербургского университета               (с 1863).</a:t>
            </a:r>
            <a:r>
              <a:rPr b="0" lang="ru-RU" sz="24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64" name="Picture 3" descr="ленц"/>
          <p:cNvPicPr/>
          <p:nvPr/>
        </p:nvPicPr>
        <p:blipFill>
          <a:blip r:embed="rId2"/>
          <a:stretch/>
        </p:blipFill>
        <p:spPr>
          <a:xfrm>
            <a:off x="684360" y="1844640"/>
            <a:ext cx="3463920" cy="4537080"/>
          </a:xfrm>
          <a:prstGeom prst="rect">
            <a:avLst/>
          </a:prstGeom>
          <a:ln w="76320">
            <a:solidFill>
              <a:srgbClr val="a3c145"/>
            </a:solidFill>
            <a:miter/>
          </a:ln>
        </p:spPr>
      </p:pic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10920" y="188640"/>
            <a:ext cx="4105080" cy="1052280"/>
          </a:xfrm>
          <a:prstGeom prst="rect">
            <a:avLst/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Физик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Сегодня на уроке: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ознакомимся с развитием образования в первой половине 19 века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ыясним, как развитие науки сказалось на развитии всего государства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ознакомимся с путешественниками, выясним, как их открытия повлияли на развитие Росс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/>
          </p:nvPr>
        </p:nvSpPr>
        <p:spPr>
          <a:xfrm>
            <a:off x="285480" y="1642680"/>
            <a:ext cx="8675640" cy="471492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a3c145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Выдающийся вклад в физику составили  работы Ленца по электромагнитной индукции и нагревательному действию тока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Им установлено знаменитое правило направления электродвижущей силы индукции (закон Ленца)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В 1842 г. независимо от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     </a:t>
            </a: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Дж. Джоуля Ленц открыл закон теплового действия электрического тока (закон Джоуля - Ленца)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Совместно с Б.С.Якоби впервые разработал методы расчета электромагнитов в электрических машинах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title"/>
          </p:nvPr>
        </p:nvSpPr>
        <p:spPr>
          <a:xfrm>
            <a:off x="611280" y="188640"/>
            <a:ext cx="8175600" cy="1168200"/>
          </a:xfrm>
          <a:prstGeom prst="rect">
            <a:avLst/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Физик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2"/>
          <p:cNvSpPr/>
          <p:nvPr/>
        </p:nvSpPr>
        <p:spPr>
          <a:xfrm>
            <a:off x="1112760" y="609588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/>
          </p:nvPr>
        </p:nvSpPr>
        <p:spPr>
          <a:xfrm>
            <a:off x="4286160" y="1500120"/>
            <a:ext cx="4857840" cy="501336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a3c145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Якоби Борис Семенович (наст. имя и фам. Мориц Герман фон Якоби,) (21 сентября 1801, Потсдам — 11 марта 1874, Санкт-Петербург), российский физик и изобретатель в области электротехники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70" name="Picture 4" descr="Jakobi_B"/>
          <p:cNvPicPr/>
          <p:nvPr/>
        </p:nvPicPr>
        <p:blipFill>
          <a:blip r:embed="rId2"/>
          <a:stretch/>
        </p:blipFill>
        <p:spPr>
          <a:xfrm>
            <a:off x="250920" y="1773360"/>
            <a:ext cx="3738600" cy="4824360"/>
          </a:xfrm>
          <a:prstGeom prst="rect">
            <a:avLst/>
          </a:prstGeom>
          <a:ln w="76320">
            <a:solidFill>
              <a:srgbClr val="a3c145"/>
            </a:solidFill>
            <a:miter/>
          </a:ln>
        </p:spPr>
      </p:pic>
      <p:sp>
        <p:nvSpPr>
          <p:cNvPr id="471" name="PlaceHolder 2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Физик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/>
          </p:nvPr>
        </p:nvSpPr>
        <p:spPr>
          <a:xfrm>
            <a:off x="4788000" y="1483920"/>
            <a:ext cx="4170240" cy="468324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a3c145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Б.Якоби и Э.Ленц разработали теорию электрических явлений на основе которой был созданы электродвигатель и гальванопластик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3" name="Text Box 4"/>
          <p:cNvSpPr/>
          <p:nvPr/>
        </p:nvSpPr>
        <p:spPr>
          <a:xfrm>
            <a:off x="250920" y="5373720"/>
            <a:ext cx="4103640" cy="1191240"/>
          </a:xfrm>
          <a:prstGeom prst="rect">
            <a:avLst/>
          </a:prstGeom>
          <a:solidFill>
            <a:srgbClr val="9383b3"/>
          </a:solidFill>
          <a:ln w="7632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Электрически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двигатель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Б.С.Якоб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74" name="Picture 5" descr="Рисунок3"/>
          <p:cNvPicPr/>
          <p:nvPr/>
        </p:nvPicPr>
        <p:blipFill>
          <a:blip r:embed="rId2"/>
          <a:stretch/>
        </p:blipFill>
        <p:spPr>
          <a:xfrm>
            <a:off x="468360" y="1461960"/>
            <a:ext cx="3606840" cy="3934080"/>
          </a:xfrm>
          <a:prstGeom prst="rect">
            <a:avLst/>
          </a:prstGeom>
          <a:ln w="76320">
            <a:solidFill>
              <a:srgbClr val="a3c145"/>
            </a:solidFill>
            <a:miter/>
          </a:ln>
        </p:spPr>
      </p:pic>
      <p:sp>
        <p:nvSpPr>
          <p:cNvPr id="475" name="AutoShape 6"/>
          <p:cNvSpPr/>
          <p:nvPr/>
        </p:nvSpPr>
        <p:spPr>
          <a:xfrm>
            <a:off x="900000" y="4508640"/>
            <a:ext cx="936720" cy="647640"/>
          </a:xfrm>
          <a:custGeom>
            <a:avLst/>
            <a:gdLst>
              <a:gd name="textAreaLeft" fmla="*/ 41760 w 936720"/>
              <a:gd name="textAreaRight" fmla="*/ 894960 w 936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31236" h="21600">
                <a:moveTo>
                  <a:pt x="0" y="0"/>
                </a:moveTo>
                <a:lnTo>
                  <a:pt x="31236" y="0"/>
                </a:lnTo>
                <a:lnTo>
                  <a:pt x="31236" y="21600"/>
                </a:lnTo>
                <a:lnTo>
                  <a:pt x="0" y="21600"/>
                </a:lnTo>
                <a:close/>
              </a:path>
              <a:path fill="lightenLess" w="31236" h="21600">
                <a:moveTo>
                  <a:pt x="0" y="0"/>
                </a:moveTo>
                <a:lnTo>
                  <a:pt x="31236" y="0"/>
                </a:lnTo>
                <a:lnTo>
                  <a:pt x="29836" y="1400"/>
                </a:lnTo>
                <a:lnTo>
                  <a:pt x="1400" y="1400"/>
                </a:lnTo>
                <a:close/>
              </a:path>
              <a:path fill="darken" w="31236" h="21600">
                <a:moveTo>
                  <a:pt x="31236" y="0"/>
                </a:moveTo>
                <a:lnTo>
                  <a:pt x="31236" y="21600"/>
                </a:lnTo>
                <a:lnTo>
                  <a:pt x="29836" y="20200"/>
                </a:lnTo>
                <a:lnTo>
                  <a:pt x="29836" y="1400"/>
                </a:lnTo>
                <a:close/>
              </a:path>
              <a:path fill="darkenLess" w="31236" h="21600">
                <a:moveTo>
                  <a:pt x="312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36" y="20200"/>
                </a:lnTo>
                <a:close/>
              </a:path>
              <a:path fill="lighten" w="312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6" name="AutoShape 7"/>
          <p:cNvSpPr/>
          <p:nvPr/>
        </p:nvSpPr>
        <p:spPr>
          <a:xfrm>
            <a:off x="1476360" y="4724280"/>
            <a:ext cx="936720" cy="648000"/>
          </a:xfrm>
          <a:custGeom>
            <a:avLst/>
            <a:gdLst>
              <a:gd name="textAreaLeft" fmla="*/ 41760 w 936720"/>
              <a:gd name="textAreaRight" fmla="*/ 894960 w 936720"/>
              <a:gd name="textAreaTop" fmla="*/ 41760 h 648000"/>
              <a:gd name="textAreaBottom" fmla="*/ 606240 h 648000"/>
            </a:gdLst>
            <a:ahLst/>
            <a:rect l="textAreaLeft" t="textAreaTop" r="textAreaRight" b="textAreaBottom"/>
            <a:pathLst>
              <a:path w="31219" h="21600">
                <a:moveTo>
                  <a:pt x="0" y="0"/>
                </a:moveTo>
                <a:lnTo>
                  <a:pt x="31219" y="0"/>
                </a:lnTo>
                <a:lnTo>
                  <a:pt x="31219" y="21600"/>
                </a:lnTo>
                <a:lnTo>
                  <a:pt x="0" y="21600"/>
                </a:lnTo>
                <a:close/>
              </a:path>
              <a:path fill="lightenLess" w="31219" h="21600">
                <a:moveTo>
                  <a:pt x="0" y="0"/>
                </a:moveTo>
                <a:lnTo>
                  <a:pt x="31219" y="0"/>
                </a:lnTo>
                <a:lnTo>
                  <a:pt x="29819" y="1400"/>
                </a:lnTo>
                <a:lnTo>
                  <a:pt x="1400" y="1400"/>
                </a:lnTo>
                <a:close/>
              </a:path>
              <a:path fill="darken" w="31219" h="21600">
                <a:moveTo>
                  <a:pt x="31219" y="0"/>
                </a:moveTo>
                <a:lnTo>
                  <a:pt x="31219" y="21600"/>
                </a:lnTo>
                <a:lnTo>
                  <a:pt x="29819" y="20200"/>
                </a:lnTo>
                <a:lnTo>
                  <a:pt x="29819" y="1400"/>
                </a:lnTo>
                <a:close/>
              </a:path>
              <a:path fill="darkenLess" w="31219" h="21600">
                <a:moveTo>
                  <a:pt x="312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19" y="20200"/>
                </a:lnTo>
                <a:close/>
              </a:path>
              <a:path fill="lighten" w="312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Физик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/>
          </p:nvPr>
        </p:nvSpPr>
        <p:spPr>
          <a:xfrm>
            <a:off x="4788000" y="1196640"/>
            <a:ext cx="4356000" cy="525636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a3c145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Б. Якоби изобрел буквопечатающий аппарат в 1839 г. Этот аппарат стал практически первым телеграфным записывающим устройством и действовал на подземной линии Петербург - Царское Село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79" name="Picture 3" descr="Jacobi%202_B4021840A341420C81EC3BFD7E3F699E"/>
          <p:cNvPicPr/>
          <p:nvPr/>
        </p:nvPicPr>
        <p:blipFill>
          <a:blip r:embed="rId2"/>
          <a:stretch/>
        </p:blipFill>
        <p:spPr>
          <a:xfrm>
            <a:off x="179280" y="981000"/>
            <a:ext cx="4249800" cy="3305160"/>
          </a:xfrm>
          <a:prstGeom prst="rect">
            <a:avLst/>
          </a:prstGeom>
          <a:ln w="76320">
            <a:solidFill>
              <a:srgbClr val="a3c145"/>
            </a:solidFill>
            <a:miter/>
          </a:ln>
        </p:spPr>
      </p:pic>
      <p:pic>
        <p:nvPicPr>
          <p:cNvPr id="480" name="Picture 4" descr="image64"/>
          <p:cNvPicPr/>
          <p:nvPr/>
        </p:nvPicPr>
        <p:blipFill>
          <a:blip r:embed="rId3"/>
          <a:stretch/>
        </p:blipFill>
        <p:spPr>
          <a:xfrm>
            <a:off x="324000" y="4508640"/>
            <a:ext cx="3960720" cy="2146320"/>
          </a:xfrm>
          <a:prstGeom prst="rect">
            <a:avLst/>
          </a:prstGeom>
          <a:ln w="76320">
            <a:solidFill>
              <a:srgbClr val="a3c145"/>
            </a:solidFill>
            <a:miter/>
          </a:ln>
        </p:spPr>
      </p:pic>
      <p:sp>
        <p:nvSpPr>
          <p:cNvPr id="481" name="PlaceHolder 2"/>
          <p:cNvSpPr>
            <a:spLocks noGrp="1"/>
          </p:cNvSpPr>
          <p:nvPr>
            <p:ph type="title"/>
          </p:nvPr>
        </p:nvSpPr>
        <p:spPr>
          <a:xfrm>
            <a:off x="4319280" y="115920"/>
            <a:ext cx="4824360" cy="752400"/>
          </a:xfrm>
          <a:prstGeom prst="rect">
            <a:avLst/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Физика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тр. 105- 106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Химия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Русские путешественники </a:t>
            </a:r>
            <a:br>
              <a:rPr sz="4000"/>
            </a:b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и первооткрыватели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067280" y="1600200"/>
            <a:ext cx="477504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В 1803 г. на кораблях « Надежда» и « Нева» отправились в экспедицию на исследования северной части Тихого океана. В ходе плавания были нанесены на карту более тысячи километров берегов Сахалина, собраны наблюдения о многих районах  через которые проплывал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86" name="Picture 11" descr="is?FullvBzpQWBQH6QPUHfSwvLU_T-KMEaGkHOA9HyLNpw"/>
          <p:cNvPicPr/>
          <p:nvPr/>
        </p:nvPicPr>
        <p:blipFill>
          <a:blip r:embed="rId1"/>
          <a:stretch/>
        </p:blipFill>
        <p:spPr>
          <a:xfrm>
            <a:off x="900000" y="1773360"/>
            <a:ext cx="2841840" cy="3673440"/>
          </a:xfrm>
          <a:prstGeom prst="rect">
            <a:avLst/>
          </a:prstGeom>
          <a:ln w="0">
            <a:noFill/>
          </a:ln>
        </p:spPr>
      </p:pic>
      <p:sp>
        <p:nvSpPr>
          <p:cNvPr id="487" name="Rectangle 12"/>
          <p:cNvSpPr/>
          <p:nvPr/>
        </p:nvSpPr>
        <p:spPr>
          <a:xfrm>
            <a:off x="539640" y="5805360"/>
            <a:ext cx="3382920" cy="64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И.Ф. Крузенштерн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Русские путешественники </a:t>
            </a:r>
            <a:br>
              <a:rPr sz="4000"/>
            </a:b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и первооткрыватели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995280" y="1599840"/>
            <a:ext cx="484668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Открыл один из островов Гавайского архипелага, названный его именем. Собрал много данных об Алеутских островах и Аляске, островах тихого и Ледовитого океано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90" name="Picture 11" descr="lisyanskiy"/>
          <p:cNvPicPr/>
          <p:nvPr/>
        </p:nvPicPr>
        <p:blipFill>
          <a:blip r:embed="rId1"/>
          <a:stretch/>
        </p:blipFill>
        <p:spPr>
          <a:xfrm>
            <a:off x="468360" y="1773360"/>
            <a:ext cx="2936880" cy="3671640"/>
          </a:xfrm>
          <a:prstGeom prst="rect">
            <a:avLst/>
          </a:prstGeom>
          <a:ln w="0">
            <a:noFill/>
          </a:ln>
        </p:spPr>
      </p:pic>
      <p:sp>
        <p:nvSpPr>
          <p:cNvPr id="491" name="Rectangle 12"/>
          <p:cNvSpPr/>
          <p:nvPr/>
        </p:nvSpPr>
        <p:spPr>
          <a:xfrm>
            <a:off x="250920" y="5661000"/>
            <a:ext cx="3744720" cy="720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b5d6b"/>
                </a:solidFill>
                <a:latin typeface="Tahoma"/>
              </a:rPr>
              <a:t>Юрий Фёдорович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b5d6b"/>
                </a:solidFill>
                <a:latin typeface="Tahoma"/>
              </a:rPr>
              <a:t>Лисянски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Русские путешественники </a:t>
            </a:r>
            <a:br>
              <a:rPr sz="4000"/>
            </a:b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и первооткрыватели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788000" y="1600200"/>
            <a:ext cx="405432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Участник первой русской кругосветной экспедиции. В 1819 – 1821 гг. на шлюпках « Восток» и « Мирный» отправились в путешествие.  16 января подошли к берегам неведомой  Антарктиды. Ими была открыта группа островов, названная островами Россиян. Были сделаны важнейшие географические открытия, привезены ценные коллекции, данные наблюдений за водами Мирового океана и ледяными покрытиями нового континент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94" name="Picture 8" descr="Портрет"/>
          <p:cNvPicPr/>
          <p:nvPr/>
        </p:nvPicPr>
        <p:blipFill>
          <a:blip r:embed="rId1"/>
          <a:stretch/>
        </p:blipFill>
        <p:spPr>
          <a:xfrm>
            <a:off x="179280" y="1484280"/>
            <a:ext cx="2016360" cy="2814840"/>
          </a:xfrm>
          <a:prstGeom prst="rect">
            <a:avLst/>
          </a:prstGeom>
          <a:ln w="0">
            <a:noFill/>
          </a:ln>
        </p:spPr>
      </p:pic>
      <p:pic>
        <p:nvPicPr>
          <p:cNvPr id="495" name="Picture 11" descr="Михаил Петрович Лазарев.jpg"/>
          <p:cNvPicPr/>
          <p:nvPr/>
        </p:nvPicPr>
        <p:blipFill>
          <a:blip r:embed="rId2"/>
          <a:stretch/>
        </p:blipFill>
        <p:spPr>
          <a:xfrm>
            <a:off x="2700360" y="2708280"/>
            <a:ext cx="2251080" cy="3024360"/>
          </a:xfrm>
          <a:prstGeom prst="rect">
            <a:avLst/>
          </a:prstGeom>
          <a:ln w="0">
            <a:noFill/>
          </a:ln>
        </p:spPr>
      </p:pic>
      <p:sp>
        <p:nvSpPr>
          <p:cNvPr id="496" name="WordArt 12"/>
          <p:cNvSpPr txBox="1"/>
          <p:nvPr/>
        </p:nvSpPr>
        <p:spPr>
          <a:xfrm>
            <a:off x="179280" y="4437000"/>
            <a:ext cx="244800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Ф.Ф. Беллинсгаузен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497" name="WordArt 13"/>
          <p:cNvSpPr txBox="1"/>
          <p:nvPr/>
        </p:nvSpPr>
        <p:spPr>
          <a:xfrm>
            <a:off x="2556000" y="5805360"/>
            <a:ext cx="24476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М.П. Лазарев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Русские путешественники </a:t>
            </a:r>
            <a:br>
              <a:rPr sz="4000"/>
            </a:b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и первооткрыватели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99" name="Picture 12" descr="Портрет"/>
          <p:cNvPicPr/>
          <p:nvPr/>
        </p:nvPicPr>
        <p:blipFill>
          <a:blip r:embed="rId1"/>
          <a:stretch/>
        </p:blipFill>
        <p:spPr>
          <a:xfrm>
            <a:off x="250920" y="1700280"/>
            <a:ext cx="3333600" cy="4033800"/>
          </a:xfrm>
          <a:prstGeom prst="rect">
            <a:avLst/>
          </a:prstGeom>
          <a:ln w="0">
            <a:noFill/>
          </a:ln>
        </p:spPr>
      </p:pic>
      <p:sp>
        <p:nvSpPr>
          <p:cNvPr id="500" name="Rectangle 13"/>
          <p:cNvSpPr/>
          <p:nvPr/>
        </p:nvSpPr>
        <p:spPr>
          <a:xfrm>
            <a:off x="250920" y="5661000"/>
            <a:ext cx="3744720" cy="720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b5d6b"/>
                </a:solidFill>
                <a:latin typeface="Tahoma"/>
              </a:rPr>
              <a:t>Александр Андреевич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b5d6b"/>
                </a:solidFill>
                <a:latin typeface="Tahoma"/>
              </a:rPr>
              <a:t>Баранов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1" name="Rectangle 14"/>
          <p:cNvSpPr/>
          <p:nvPr/>
        </p:nvSpPr>
        <p:spPr>
          <a:xfrm>
            <a:off x="3924360" y="1521000"/>
            <a:ext cx="4968720" cy="382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Исследовал территории, примыкавшие к Тихоокеанскому побережью Северо-Западной Америки, установил торговые связи с Калифорнией, Гавайскими островами, Китаем. По распоряжению Баранова в 1812 году основан </a:t>
            </a: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Форт Росс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в Калифорнии. Также основал большинство русских поселений на Аляске, в том числе Новоархангельск (с 1867 года — Ситка) и перенес туда центр Русской Америки. За «…усердие его к заведению, утверждению и расширению в Америке российской торговли» в 1799 году император Павел I Петрович наградил Баранова именной медалью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Русские путешественники </a:t>
            </a:r>
            <a:br>
              <a:rPr sz="4000"/>
            </a:b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и первооткрыватели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3995280" y="1600200"/>
            <a:ext cx="484668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23 ноября (5 декабря) 1813), </a:t>
            </a: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Дракино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, Костромской губернии — 17 ( 29) апреля 1876, Санкт-Петербург) — российский адмирал (1874 год), исследователь Дальнего Востока, основатель города Николаевск-на-Амуре. Доказал, что устье </a:t>
            </a: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Амура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доступно для входа морских судов и что Сахалин — остров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04" name="Picture 8" descr="Портрет"/>
          <p:cNvPicPr/>
          <p:nvPr/>
        </p:nvPicPr>
        <p:blipFill>
          <a:blip r:embed="rId1"/>
          <a:stretch/>
        </p:blipFill>
        <p:spPr>
          <a:xfrm>
            <a:off x="684360" y="1557360"/>
            <a:ext cx="3089160" cy="4464000"/>
          </a:xfrm>
          <a:prstGeom prst="rect">
            <a:avLst/>
          </a:prstGeom>
          <a:ln w="0">
            <a:noFill/>
          </a:ln>
        </p:spPr>
      </p:pic>
      <p:sp>
        <p:nvSpPr>
          <p:cNvPr id="505" name="Rectangle 10"/>
          <p:cNvSpPr/>
          <p:nvPr/>
        </p:nvSpPr>
        <p:spPr>
          <a:xfrm>
            <a:off x="250920" y="5661000"/>
            <a:ext cx="3744720" cy="720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d6b"/>
                </a:solidFill>
                <a:latin typeface="Tahoma"/>
              </a:rPr>
              <a:t>Геннадий Иванович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d6b"/>
                </a:solidFill>
                <a:latin typeface="Tahoma"/>
              </a:rPr>
              <a:t>Невельски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/>
          </p:nvPr>
        </p:nvSpPr>
        <p:spPr>
          <a:xfrm>
            <a:off x="395280" y="1628640"/>
            <a:ext cx="8469360" cy="447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0" name="Rectangle 9"/>
          <p:cNvSpPr/>
          <p:nvPr/>
        </p:nvSpPr>
        <p:spPr>
          <a:xfrm>
            <a:off x="395280" y="260280"/>
            <a:ext cx="8353440" cy="1008000"/>
          </a:xfrm>
          <a:prstGeom prst="rect">
            <a:avLst/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ahoma"/>
              </a:rPr>
              <a:t>План: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1" name="Rectangle 10"/>
          <p:cNvSpPr/>
          <p:nvPr/>
        </p:nvSpPr>
        <p:spPr>
          <a:xfrm>
            <a:off x="324000" y="1557360"/>
            <a:ext cx="8640720" cy="51116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buClr>
                <a:srgbClr val="5b5d6b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b5d6b"/>
                </a:solidFill>
                <a:latin typeface="Tahoma"/>
              </a:rPr>
              <a:t>Развитие образования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buClr>
                <a:srgbClr val="5b5d6b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b5d6b"/>
                </a:solidFill>
                <a:latin typeface="Tahoma"/>
              </a:rPr>
              <a:t>  </a:t>
            </a:r>
            <a:r>
              <a:rPr b="1" lang="en-US" sz="4000" spc="-1" strike="noStrike">
                <a:solidFill>
                  <a:srgbClr val="5b5d6b"/>
                </a:solidFill>
                <a:latin typeface="Tahoma"/>
              </a:rPr>
              <a:t>Развитие науки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buClr>
                <a:srgbClr val="5b5d6b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b5d6b"/>
                </a:solidFill>
                <a:latin typeface="Tahoma"/>
              </a:rPr>
              <a:t>Русские первооткрыватели и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b5d6b"/>
                </a:solidFill>
                <a:latin typeface="Tahoma"/>
              </a:rPr>
              <a:t> </a:t>
            </a:r>
            <a:r>
              <a:rPr b="1" lang="en-US" sz="4000" spc="-1" strike="noStrike">
                <a:solidFill>
                  <a:srgbClr val="5b5d6b"/>
                </a:solidFill>
                <a:latin typeface="Tahoma"/>
              </a:rPr>
              <a:t>путешественники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Русские путешественники </a:t>
            </a:r>
            <a:br>
              <a:rPr sz="4000"/>
            </a:b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и первооткрыватели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067280" y="1600200"/>
            <a:ext cx="477504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В 1822-1825 гг. совершил кругосветное путешествие и оставил потомкам описание увиденного. В 1852-1855 гг. во время  экспедиции были открыты острова Римского – Корсакова, удалось побывать в закрытой Японии и даже подписать с ними договор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08" name="Picture 8" descr="Портрет"/>
          <p:cNvPicPr/>
          <p:nvPr/>
        </p:nvPicPr>
        <p:blipFill>
          <a:blip r:embed="rId1"/>
          <a:stretch/>
        </p:blipFill>
        <p:spPr>
          <a:xfrm>
            <a:off x="611280" y="1700280"/>
            <a:ext cx="3168720" cy="4103640"/>
          </a:xfrm>
          <a:prstGeom prst="rect">
            <a:avLst/>
          </a:prstGeom>
          <a:ln w="0">
            <a:noFill/>
          </a:ln>
        </p:spPr>
      </p:pic>
      <p:sp>
        <p:nvSpPr>
          <p:cNvPr id="509" name="Rectangle 10"/>
          <p:cNvSpPr/>
          <p:nvPr/>
        </p:nvSpPr>
        <p:spPr>
          <a:xfrm>
            <a:off x="250920" y="5661000"/>
            <a:ext cx="3744720" cy="720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d6b"/>
                </a:solidFill>
                <a:latin typeface="Tahoma"/>
              </a:rPr>
              <a:t>Ефимий Васильевич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d6b"/>
                </a:solidFill>
                <a:latin typeface="Tahoma"/>
              </a:rPr>
              <a:t>Путятин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тр. 111 - 11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Поработаем с документами: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опросы на стр. 108, 112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Подведём итоги: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араграф 16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17, записи, задания в рабочей тетрад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Домашнее задание: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8"/>
          <p:cNvSpPr/>
          <p:nvPr/>
        </p:nvSpPr>
        <p:spPr>
          <a:xfrm>
            <a:off x="250920" y="115920"/>
            <a:ext cx="8497800" cy="1297080"/>
          </a:xfrm>
          <a:prstGeom prst="rect">
            <a:avLst/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Развитие образования в первой половине XIX века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250920" y="3213000"/>
            <a:ext cx="499104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Tahoma"/>
              </a:rPr>
              <a:t>Общеобразовательная школа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  <a:ea typeface="Calibri"/>
              </a:rPr>
              <a:t>гимназии (7 лет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  <a:ea typeface="Calibri"/>
              </a:rPr>
              <a:t>уездные училища (3 года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приходские училища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(1 год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5003640" y="3213000"/>
            <a:ext cx="3765600" cy="254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Tahoma"/>
              </a:rPr>
              <a:t>Высшая школа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ahoma"/>
                <a:ea typeface="Calibri"/>
              </a:rPr>
              <a:t>университеты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ahoma"/>
                <a:ea typeface="Calibri"/>
              </a:rPr>
              <a:t>академи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6" name="AutoShape 13"/>
          <p:cNvSpPr/>
          <p:nvPr/>
        </p:nvSpPr>
        <p:spPr>
          <a:xfrm rot="2281200">
            <a:off x="2700000" y="1341360"/>
            <a:ext cx="485640" cy="2087640"/>
          </a:xfrm>
          <a:prstGeom prst="downArrow">
            <a:avLst>
              <a:gd name="adj1" fmla="val 50000"/>
              <a:gd name="adj2" fmla="val 107468"/>
            </a:avLst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7" name="AutoShape 14"/>
          <p:cNvSpPr/>
          <p:nvPr/>
        </p:nvSpPr>
        <p:spPr>
          <a:xfrm rot="19635000">
            <a:off x="5508720" y="1341000"/>
            <a:ext cx="485640" cy="2087640"/>
          </a:xfrm>
          <a:prstGeom prst="downArrow">
            <a:avLst>
              <a:gd name="adj1" fmla="val 50000"/>
              <a:gd name="adj2" fmla="val 107468"/>
            </a:avLst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Развитие образования в первой половине XIX века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9" name="AutoShape 8"/>
          <p:cNvSpPr/>
          <p:nvPr/>
        </p:nvSpPr>
        <p:spPr>
          <a:xfrm rot="1483800">
            <a:off x="2889360" y="1328760"/>
            <a:ext cx="485640" cy="1284120"/>
          </a:xfrm>
          <a:prstGeom prst="downArrow">
            <a:avLst>
              <a:gd name="adj1" fmla="val 50000"/>
              <a:gd name="adj2" fmla="val 50264"/>
            </a:avLst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0" name="AutoShape 9"/>
          <p:cNvSpPr/>
          <p:nvPr/>
        </p:nvSpPr>
        <p:spPr>
          <a:xfrm rot="18648600">
            <a:off x="4968360" y="1176480"/>
            <a:ext cx="485640" cy="1262160"/>
          </a:xfrm>
          <a:prstGeom prst="downArrow">
            <a:avLst>
              <a:gd name="adj1" fmla="val 50000"/>
              <a:gd name="adj2" fmla="val 50271"/>
            </a:avLst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1" name="Oval 12"/>
          <p:cNvSpPr/>
          <p:nvPr/>
        </p:nvSpPr>
        <p:spPr>
          <a:xfrm>
            <a:off x="0" y="2276640"/>
            <a:ext cx="3132000" cy="1152360"/>
          </a:xfrm>
          <a:prstGeom prst="ellipse">
            <a:avLst/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Приходские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Одноклассны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училищ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6082560" y="1757160"/>
            <a:ext cx="1731600" cy="966600"/>
          </a:xfrm>
          <a:prstGeom prst="rect">
            <a:avLst/>
          </a:prstGeom>
          <a:solidFill>
            <a:srgbClr val="9966ff"/>
          </a:solidFill>
          <a:ln w="12600">
            <a:solidFill>
              <a:srgbClr val="ffffff"/>
            </a:solidFill>
            <a:round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Уездные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трёхклассные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училища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3" name="AutoShape 15"/>
          <p:cNvSpPr/>
          <p:nvPr/>
        </p:nvSpPr>
        <p:spPr>
          <a:xfrm>
            <a:off x="1332000" y="342900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4" name="Rectangle 16"/>
          <p:cNvSpPr/>
          <p:nvPr/>
        </p:nvSpPr>
        <p:spPr>
          <a:xfrm>
            <a:off x="179280" y="4292640"/>
            <a:ext cx="2592360" cy="23050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5b5d6b"/>
                </a:solidFill>
                <a:uFillTx/>
                <a:latin typeface="Tahoma"/>
              </a:rPr>
              <a:t>Учились: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5b5d6b"/>
                </a:solidFill>
                <a:uFillTx/>
                <a:latin typeface="Tahoma"/>
              </a:rPr>
              <a:t>представител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5b5d6b"/>
                </a:solidFill>
                <a:uFillTx/>
                <a:latin typeface="Tahoma"/>
              </a:rPr>
              <a:t> </a:t>
            </a:r>
            <a:r>
              <a:rPr b="1" lang="en-US" sz="1800" spc="-1" strike="noStrike" u="sng">
                <a:solidFill>
                  <a:srgbClr val="5b5d6b"/>
                </a:solidFill>
                <a:uFillTx/>
                <a:latin typeface="Tahoma"/>
              </a:rPr>
              <a:t>«низов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87b2e"/>
                </a:solidFill>
                <a:uFillTx/>
                <a:latin typeface="Tahoma"/>
              </a:rPr>
              <a:t>Изучали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buClr>
                <a:srgbClr val="5b5d6b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b5d6b"/>
                </a:solidFill>
                <a:latin typeface="Tahoma"/>
              </a:rPr>
              <a:t>Закон Божи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buClr>
                <a:srgbClr val="5b5d6b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b5d6b"/>
                </a:solidFill>
                <a:latin typeface="Tahoma"/>
              </a:rPr>
              <a:t>Грамоту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buClr>
                <a:srgbClr val="5b5d6b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b5d6b"/>
                </a:solidFill>
                <a:latin typeface="Tahoma"/>
              </a:rPr>
              <a:t>арифметику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5" name="Rectangle 18"/>
          <p:cNvSpPr/>
          <p:nvPr/>
        </p:nvSpPr>
        <p:spPr>
          <a:xfrm>
            <a:off x="5857920" y="3860640"/>
            <a:ext cx="2962080" cy="2808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87b2e"/>
                </a:solidFill>
                <a:uFillTx/>
                <a:latin typeface="Tahoma"/>
              </a:rPr>
              <a:t>Учились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5b5d6b"/>
                </a:solidFill>
                <a:uFillTx/>
                <a:latin typeface="Tahoma"/>
              </a:rPr>
              <a:t>Дети ремесленников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5b5d6b"/>
                </a:solidFill>
                <a:uFillTx/>
                <a:latin typeface="Tahoma"/>
              </a:rPr>
              <a:t>мещан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87b2e"/>
                </a:solidFill>
                <a:uFillTx/>
                <a:latin typeface="Tahoma"/>
              </a:rPr>
              <a:t>Изучали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buClr>
                <a:srgbClr val="5b5d6b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b5d6b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5b5d6b"/>
                </a:solidFill>
                <a:latin typeface="Tahoma"/>
              </a:rPr>
              <a:t>русский язык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buClr>
                <a:srgbClr val="5b5d6b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b5d6b"/>
                </a:solidFill>
                <a:latin typeface="Tahoma"/>
              </a:rPr>
              <a:t>Арифметику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buClr>
                <a:srgbClr val="5b5d6b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b5d6b"/>
                </a:solidFill>
                <a:latin typeface="Tahoma"/>
              </a:rPr>
              <a:t>Геометрию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buClr>
                <a:srgbClr val="5b5d6b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b5d6b"/>
                </a:solidFill>
                <a:latin typeface="Tahoma"/>
              </a:rPr>
              <a:t>Историю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buClr>
                <a:srgbClr val="5b5d6b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b5d6b"/>
                </a:solidFill>
                <a:latin typeface="Tahoma"/>
              </a:rPr>
              <a:t>географию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6" name="AutoShape 19"/>
          <p:cNvSpPr/>
          <p:nvPr/>
        </p:nvSpPr>
        <p:spPr>
          <a:xfrm>
            <a:off x="3929040" y="1357200"/>
            <a:ext cx="485640" cy="1224000"/>
          </a:xfrm>
          <a:prstGeom prst="downArrow">
            <a:avLst>
              <a:gd name="adj1" fmla="val 50000"/>
              <a:gd name="adj2" fmla="val 63010"/>
            </a:avLst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7" name="Rectangle 20"/>
          <p:cNvSpPr/>
          <p:nvPr/>
        </p:nvSpPr>
        <p:spPr>
          <a:xfrm>
            <a:off x="3071880" y="4572000"/>
            <a:ext cx="2663640" cy="194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b5d6b"/>
                </a:solidFill>
                <a:latin typeface="Tahoma"/>
              </a:rPr>
              <a:t>Учились дети дворян,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b5d6b"/>
                </a:solidFill>
                <a:latin typeface="Tahoma"/>
              </a:rPr>
              <a:t>чиновников,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b5d6b"/>
                </a:solidFill>
                <a:latin typeface="Tahoma"/>
              </a:rPr>
              <a:t>купцов первой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b5d6b"/>
                </a:solidFill>
                <a:latin typeface="Tahoma"/>
              </a:rPr>
              <a:t>гильди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8" name="Oval 21"/>
          <p:cNvSpPr/>
          <p:nvPr/>
        </p:nvSpPr>
        <p:spPr>
          <a:xfrm>
            <a:off x="3348000" y="2565360"/>
            <a:ext cx="2581200" cy="1366920"/>
          </a:xfrm>
          <a:prstGeom prst="ellipse">
            <a:avLst/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Семиклассные гимназии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9" name="AutoShape 22"/>
          <p:cNvSpPr/>
          <p:nvPr/>
        </p:nvSpPr>
        <p:spPr>
          <a:xfrm>
            <a:off x="4329000" y="3573360"/>
            <a:ext cx="486000" cy="976320"/>
          </a:xfrm>
          <a:prstGeom prst="downArrow">
            <a:avLst>
              <a:gd name="adj1" fmla="val 50000"/>
              <a:gd name="adj2" fmla="val 50222"/>
            </a:avLst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0" name="AutoShape 23"/>
          <p:cNvSpPr/>
          <p:nvPr/>
        </p:nvSpPr>
        <p:spPr>
          <a:xfrm>
            <a:off x="6877080" y="2940120"/>
            <a:ext cx="485640" cy="849240"/>
          </a:xfrm>
          <a:prstGeom prst="downArrow">
            <a:avLst>
              <a:gd name="adj1" fmla="val 50000"/>
              <a:gd name="adj2" fmla="val 43718"/>
            </a:avLst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/>
          </p:nvPr>
        </p:nvSpPr>
        <p:spPr>
          <a:xfrm>
            <a:off x="4356000" y="1599840"/>
            <a:ext cx="4788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В 1811 году был открыт Александровский            ( Царскосельский) лицей, в котором обучались представители высшего дворянского общества   ( в том числе и А.С. Пушкин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12" name="Picture 7" descr="mesta_20_1"/>
          <p:cNvPicPr/>
          <p:nvPr/>
        </p:nvPicPr>
        <p:blipFill>
          <a:blip r:embed="rId1"/>
          <a:stretch/>
        </p:blipFill>
        <p:spPr>
          <a:xfrm>
            <a:off x="324000" y="1771560"/>
            <a:ext cx="4032000" cy="2657520"/>
          </a:xfrm>
          <a:prstGeom prst="rect">
            <a:avLst/>
          </a:prstGeom>
          <a:ln w="0">
            <a:noFill/>
          </a:ln>
        </p:spPr>
      </p:pic>
      <p:sp>
        <p:nvSpPr>
          <p:cNvPr id="413" name="PlaceHolder 2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Развитие образования в первой половине XIX века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Развитие образования в первой половине XIX века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5" name="Rectangle 8"/>
          <p:cNvSpPr/>
          <p:nvPr/>
        </p:nvSpPr>
        <p:spPr>
          <a:xfrm>
            <a:off x="5003640" y="1628640"/>
            <a:ext cx="3780000" cy="936720"/>
          </a:xfrm>
          <a:prstGeom prst="rect">
            <a:avLst/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Дерптский университе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1802 г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6" name="Rectangle 9"/>
          <p:cNvSpPr/>
          <p:nvPr/>
        </p:nvSpPr>
        <p:spPr>
          <a:xfrm>
            <a:off x="5003640" y="3860640"/>
            <a:ext cx="3816360" cy="1008360"/>
          </a:xfrm>
          <a:prstGeom prst="rect">
            <a:avLst/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Харьковский университе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1804 г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7" name="Rectangle 10"/>
          <p:cNvSpPr/>
          <p:nvPr/>
        </p:nvSpPr>
        <p:spPr>
          <a:xfrm>
            <a:off x="5003640" y="2708280"/>
            <a:ext cx="3816360" cy="1008000"/>
          </a:xfrm>
          <a:prstGeom prst="rect">
            <a:avLst/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Казанский университе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1804 г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8" name="Rectangle 11"/>
          <p:cNvSpPr/>
          <p:nvPr/>
        </p:nvSpPr>
        <p:spPr>
          <a:xfrm>
            <a:off x="1692360" y="5805360"/>
            <a:ext cx="3311280" cy="889200"/>
          </a:xfrm>
          <a:prstGeom prst="rect">
            <a:avLst/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Виленский университе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1804 г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9" name="Rectangle 12"/>
          <p:cNvSpPr/>
          <p:nvPr/>
        </p:nvSpPr>
        <p:spPr>
          <a:xfrm>
            <a:off x="5003640" y="5013360"/>
            <a:ext cx="3816360" cy="863640"/>
          </a:xfrm>
          <a:prstGeom prst="rect">
            <a:avLst/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Петербургский университе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1819 г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0" name="AutoShape 13"/>
          <p:cNvSpPr/>
          <p:nvPr/>
        </p:nvSpPr>
        <p:spPr>
          <a:xfrm rot="16200000">
            <a:off x="3968640" y="1440000"/>
            <a:ext cx="486000" cy="1584000"/>
          </a:xfrm>
          <a:prstGeom prst="downArrow">
            <a:avLst>
              <a:gd name="adj1" fmla="val 50000"/>
              <a:gd name="adj2" fmla="val 81481"/>
            </a:avLst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21" name="Picture 16" descr="Рисунок10"/>
          <p:cNvPicPr/>
          <p:nvPr/>
        </p:nvPicPr>
        <p:blipFill>
          <a:blip r:embed="rId1"/>
          <a:stretch/>
        </p:blipFill>
        <p:spPr>
          <a:xfrm>
            <a:off x="468360" y="1700280"/>
            <a:ext cx="2944800" cy="3816360"/>
          </a:xfrm>
          <a:prstGeom prst="rect">
            <a:avLst/>
          </a:prstGeom>
          <a:ln w="76320">
            <a:solidFill>
              <a:srgbClr val="a3c145"/>
            </a:solidFill>
            <a:miter/>
          </a:ln>
        </p:spPr>
      </p:pic>
      <p:sp>
        <p:nvSpPr>
          <p:cNvPr id="422" name="AutoShape 18"/>
          <p:cNvSpPr/>
          <p:nvPr/>
        </p:nvSpPr>
        <p:spPr>
          <a:xfrm rot="18772800">
            <a:off x="1029240" y="5531040"/>
            <a:ext cx="485640" cy="890640"/>
          </a:xfrm>
          <a:prstGeom prst="downArrow">
            <a:avLst>
              <a:gd name="adj1" fmla="val 50000"/>
              <a:gd name="adj2" fmla="val 45849"/>
            </a:avLst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3" name="AutoShape 19"/>
          <p:cNvSpPr/>
          <p:nvPr/>
        </p:nvSpPr>
        <p:spPr>
          <a:xfrm rot="16200000">
            <a:off x="4113360" y="2393640"/>
            <a:ext cx="485640" cy="1584360"/>
          </a:xfrm>
          <a:prstGeom prst="downArrow">
            <a:avLst>
              <a:gd name="adj1" fmla="val 50000"/>
              <a:gd name="adj2" fmla="val 81560"/>
            </a:avLst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4" name="AutoShape 20"/>
          <p:cNvSpPr/>
          <p:nvPr/>
        </p:nvSpPr>
        <p:spPr>
          <a:xfrm rot="16200000">
            <a:off x="4041360" y="3527280"/>
            <a:ext cx="486000" cy="1584360"/>
          </a:xfrm>
          <a:prstGeom prst="downArrow">
            <a:avLst>
              <a:gd name="adj1" fmla="val 50000"/>
              <a:gd name="adj2" fmla="val 81500"/>
            </a:avLst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5" name="AutoShape 21"/>
          <p:cNvSpPr/>
          <p:nvPr/>
        </p:nvSpPr>
        <p:spPr>
          <a:xfrm rot="16200000">
            <a:off x="3968640" y="4535640"/>
            <a:ext cx="486000" cy="1584000"/>
          </a:xfrm>
          <a:prstGeom prst="downArrow">
            <a:avLst>
              <a:gd name="adj1" fmla="val 50000"/>
              <a:gd name="adj2" fmla="val 81481"/>
            </a:avLst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Развитие образования в первой половине XIX века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7" name="Rectangle 7"/>
          <p:cNvSpPr/>
          <p:nvPr/>
        </p:nvSpPr>
        <p:spPr>
          <a:xfrm>
            <a:off x="179280" y="1628640"/>
            <a:ext cx="8785440" cy="51134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b5d6b"/>
                </a:solidFill>
                <a:latin typeface="Tahoma"/>
              </a:rPr>
              <a:t>В 20-50 – е годы отношение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b5d6b"/>
                </a:solidFill>
                <a:latin typeface="Tahoma"/>
              </a:rPr>
              <a:t>правительства к нуждам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b5d6b"/>
                </a:solidFill>
                <a:latin typeface="Tahoma"/>
              </a:rPr>
              <a:t> </a:t>
            </a:r>
            <a:r>
              <a:rPr b="1" lang="en-US" sz="4000" spc="-1" strike="noStrike">
                <a:solidFill>
                  <a:srgbClr val="5b5d6b"/>
                </a:solidFill>
                <a:latin typeface="Tahoma"/>
              </a:rPr>
              <a:t>образования изменилось.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b5d6b"/>
                </a:solidFill>
                <a:latin typeface="Tahoma"/>
              </a:rPr>
              <a:t>Теперь школ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b5d6b"/>
                </a:solidFill>
                <a:latin typeface="Tahoma"/>
              </a:rPr>
              <a:t>была нацелена на воспитание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b5d6b"/>
                </a:solidFill>
                <a:latin typeface="Tahoma"/>
              </a:rPr>
              <a:t>нравственности,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b5d6b"/>
                </a:solidFill>
                <a:latin typeface="Tahoma"/>
              </a:rPr>
              <a:t>основанной на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b5d6b"/>
                </a:solidFill>
                <a:latin typeface="Tahoma"/>
              </a:rPr>
              <a:t>религиозных началах.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Увеличивалось и число высших учебных заведений. Особенно быстро развивались училища по подготовке специалистов в различных областях. Рос объём литературы для всех слоёв населения. Развивалось и библиотечное дело. В 30-40 –е годы библиотеки были  открыты по инициативе местной общественности в большинстве уездных и губернских городов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Совершенствование системы образования во многом способствовало развитию отечественной наук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title"/>
          </p:nvPr>
        </p:nvSpPr>
        <p:spPr>
          <a:xfrm>
            <a:off x="250920" y="-360"/>
            <a:ext cx="8642160" cy="1268280"/>
          </a:xfrm>
          <a:prstGeom prst="rect">
            <a:avLst/>
          </a:prstGeom>
          <a:solidFill>
            <a:srgbClr val="9966ff"/>
          </a:solidFill>
          <a:ln w="1260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Развитие образования в первой половине XIX века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КарМаН</cp:lastModifiedBy>
  <dcterms:modified xsi:type="dcterms:W3CDTF">2012-03-01T11:51:04Z</dcterms:modified>
  <cp:revision>18</cp:revision>
  <dc:subject/>
  <dc:title>Древний Египет</dc:title>
</cp:coreProperties>
</file>